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098D5-2582-4C5C-B0C8-05DF123A3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732E4-6B56-4B75-A748-09D9F431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A2AE2-4A61-4DA4-A8E7-E1C55C2E8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8D919-A6F1-47C1-9DDF-BFF697C6B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9EB0-4692-478D-881F-F21587ADA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2905-6D3A-4450-B387-F1D5ADFA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692E-DF87-4121-BE55-07060BCA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FFE4-6FB9-4AF0-88F3-EFD522CE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FEF3-F3DB-440C-93E3-327C59B7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5D86-37CD-4F19-A531-1A44D5A7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03FA-2C7E-4C1D-9A61-3030FE08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A558C-591A-498D-A781-EB054608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9014-9B15-41AF-9BD5-0E4F9B0A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FDEF-0C5F-4D26-A882-3F145CEF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0CF4-553A-4DB6-BC32-BD016EF3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5E99-9EF6-4529-A05B-D976D62B6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2E11-D8C0-4E8B-92E8-9E1AB073C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34CE9-8165-436B-B78C-E2392618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B89DC-C547-43DB-BFCD-6A1587D3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9FBBF-F43C-4898-A11F-0AD75FE4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09CD0-21CE-4A12-8F10-922E566A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F03EA-3E64-4606-8040-DD09E8BF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3938A-5CFD-43E4-BC85-3A6395DE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06DE6-EEFA-4793-B79E-D759E10B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362B-3C7E-4EF2-A991-76EAD1A9D7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CD0D-3A14-4C34-9F50-A3B2BA93A4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omtel.cz/cz/?s=vyuka&amp;l=pred_detail&amp;kod=106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68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00000"/>
                </a:solidFill>
                <a:latin typeface="Arial"/>
              </a:rPr>
              <a:t>Multiplexní metod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16000" y="2205000"/>
            <a:ext cx="48956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Arial"/>
              </a:rPr>
              <a:t>X32TSS - Telekomunikační systémy a sítě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Seminární projek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Vypracovali: Zuzana Kút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Petr Votav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6.semestr 2005/200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DM- Wave Division multiplex 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ívá posunutých vlnových dél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nosové médium- optické vlák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y W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WDM (Density WDM)- rozestupy mezi kanály jednotky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WDM (Coarse WDM)- rozestupy mezi signály desítky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timalizace přenosové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lepší využití přenosových cest pracujeme s digitalizovaným a sdruženým signálem. Hovoříme o TDM+WD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6D64B-C9C8-4B7E-A37A-DEBA5BC788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DM- Wave Division multiplex 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silovače signá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ektron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žitější zaříze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utnost převodu optického signálu na elektrický, oprava časování a tvar, převod zpět na optický sign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DFA (Erbium Doped Fiber Amplifier)- zesilovač na optické bázi (stimulovaná emis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→zesílení světelného tok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hoda: při 32 kanálovém provozu potřebujeme pouze 9 EDFA zesilovačů (1000 Km) oproti 288 elekronickým zesilovačů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FC3DA-EC8C-4925-BA3C-99D871B874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oucnost       optická vedení      W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ysoká přenosová rych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lehlivost a kvalita přeno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132000" y="4076640"/>
            <a:ext cx="2286000" cy="1600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627280" y="206064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76720" y="2060640"/>
            <a:ext cx="433440" cy="287280"/>
          </a:xfrm>
          <a:prstGeom prst="rightArrow">
            <a:avLst>
              <a:gd name="adj1" fmla="val 50000"/>
              <a:gd name="adj2" fmla="val 37719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28B70-CB07-4C58-B524-A2807E6CC9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droje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ni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voboda, J., a spol. : Telekomunikační technika II. díl, Přenos dat, spojovací a přenosové systémy, Odborné nakladatelství 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ti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amp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Beneš, Praha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mtel : 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comtel.cz/cz/?s=vyuka&amp;l=pred_detail&amp;kod=106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71D58-F053-40E1-9418-5A2A834CDF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rozdělení multiplex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DM – Frequency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ncip frekvenčního multiplex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- drátový stejnopásmový (různopásmový) prov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DM- Tim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ncip časového multiplex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DM- Cod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DM- Wav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15A3F-4319-4E44-B621-F8E582C2A5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ladní rozdělení multiplex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voj telekomunikačních služeb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→ zvyšování kapacity přenosových kaná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Možnosti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měna starých kabelů za nové s více žilami → neekonom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ultiplex = lepší využití stávajících přenosových c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y multiplex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vodov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rekvenční (F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ový (T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ódový (C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nový (W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54ABA-EC89-4A30-8F58-8EB2BB16BB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DM – Frequency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ívá frekvenčně posunutých hovorových pásem (AM modul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ířka hovorového pásma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f = 31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dstupy pásem 900 Hz → šířka přenášeného pásma 40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bsazení frekvenčního pá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nalogie s radiovým signá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užití stíněných vodičů → na všech mohou být stejné frekv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spořádání přenosové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- drátové stejnopásm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- drátové různopásm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- drátov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04331-0FFA-46F0-84DE-B8530293E1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 frekvenčního multiplex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01760" y="1341360"/>
            <a:ext cx="4821480" cy="525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0AB74-18C5-4722-86B2-29917F1ABB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- drátový stejnopásmový (různopásmový) provo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987640" y="3716280"/>
            <a:ext cx="5905440" cy="2360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16000" y="220500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436572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24360" y="342900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04000" y="4437000"/>
            <a:ext cx="1152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5472000" cy="474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C6CD5-5F8E-43B6-847D-06EABD7DDE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DM- Time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ové dělení kanál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→každý signál má přidělen určitý časový úsek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Úseku přiřadíme jeho okamžitou hodnotu v určitém čase (vzorková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zorkovací frekv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usí splňovat Shannon- Kotělnikovův teor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v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≥ 2*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o telefonní signál je 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= 80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CM 1.řá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praxi se TDM kombinuje s digitalizací signálu, tomu odpovídá PCM 1.řá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21C92-2BA9-4902-94E0-5E8E4C4D8D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 časového multiplex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71640" y="1413000"/>
          <a:ext cx="2203200" cy="51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13000"/>
                    <a:ext cx="220320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284720" y="2349360"/>
            <a:ext cx="4038480" cy="2810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076720" y="4797360"/>
            <a:ext cx="19447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ynchroniz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02880" y="263700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02880" y="306864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02880" y="3573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02880" y="4005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63960" y="263700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63960" y="306864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63960" y="3573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63960" y="4005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33040" y="1989000"/>
            <a:ext cx="1717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M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7960" y="1989000"/>
            <a:ext cx="1552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9D46C-E743-44BB-884C-C1B0ADC248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DM- Code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ílčí přenosy jso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"zakódovány" do jediného sp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č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ého 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osu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ždý účastník si z tohoto celk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kódu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co mu 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ísluší, pomocí kódu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ždý z přenášených signálů používá jiný kód (pseudonásobnou sekvenc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hoda -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ysoká efektivnost vy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í dostupného frekvenčního pásma</a:t>
            </a:r>
            <a:r>
              <a:rPr b="1" i="1" lang="cs-CZ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7F7F9-035F-445E-AAAD-A8C21A329A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7:44:08Z</dcterms:created>
  <dc:creator>petr</dc:creator>
  <dc:description/>
  <dc:language>en-US</dc:language>
  <cp:lastModifiedBy>student</cp:lastModifiedBy>
  <dcterms:modified xsi:type="dcterms:W3CDTF">2006-05-23T11:52:58Z</dcterms:modified>
  <cp:revision>34</cp:revision>
  <dc:subject/>
  <dc:title>Multiplexní metody</dc:title>
</cp:coreProperties>
</file>