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E20F-ED17-4BA1-A4B8-40BADDAA8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CAD6-269B-4C44-BAD0-40CD8448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221A-CFB1-4256-B833-14D141A7A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0DE9-A3EB-4A48-AC6C-01358E7CF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5B83-CEDC-4DDD-B487-BBDDE0DB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60A2-5120-441F-A955-71E01616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182F-03F1-4BB7-BFD3-2A309609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3C1D-785A-454F-BD1A-6386A7F6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297D-F347-4725-BF05-4C6D7B09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D4B8-0E36-43CF-BBA0-C5DDEF53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735B-730F-490E-A5E4-20AE8FFF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3979-127A-49E5-835C-2404D67A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Multiprotocol Label Switching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(MPL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620640"/>
            <a:ext cx="820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32TSS - Telekomunikační systémy a sít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084640"/>
            <a:ext cx="8207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ít Wasserbau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tin Zahrad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43588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posílání paketů realizováno jiným způsobem než v běžné IP sí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vstupu MPLS sítě je paket vybaven značkou (lab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měrovač přeposílá označkovaný paket podle přepínací tabulky a může zároveň měnit hodnotu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konci MPLS sítě je značka odejmuta a paket je dále transportován klasickým způsobem na základě IP adre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413000"/>
            <a:ext cx="813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PLS síť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echanismus MPLS sít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SR (Label Switch Router) – směrovač, přepíná pakety na základě MPLS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raniční (edge) LS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gress LSR – provádí vlože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gress LSR – provádí odebrá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46814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truktura znač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bit. značka umístěná v rámci 32bit. MPLS hlavič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4503600" cy="695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4000" y="2421000"/>
            <a:ext cx="8496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 - experimentální bity pro potřeby klasifikace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– bit označující první MPLS značku vloženou do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TL – bity s významem jako identické pole v IP hlavič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340000" y="3860640"/>
            <a:ext cx="4560840" cy="1667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4000" y="5516640"/>
            <a:ext cx="849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ožena mezi hlavičku rámce a transportovaný IP pa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řidělování znač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cílové IP adresy a QoS parametrů (Quality of Serv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příslušnosti paketu do VPN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multicastov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126828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načka může být paketu přidělena např. na základě těchto kritéri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285264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EC (Forwarding Equivalence Class) – množina paketů daným kritériím vyhov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42900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nožina FEC -&gt; vlastní značka -&gt; určení cesty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393372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DP (Label Distribution Protocol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4365720"/>
            <a:ext cx="8229600" cy="19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tváří FEC na základě prefixu IP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ároveň distribuce značek jednotlivých FEC mezi uzly MPLS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uje následující LSR o přiřazení znač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izováno několik různých LDP – v MPLS síti nemusí být použit pouze j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TM přepínače v MPLS sítí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3516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možné je po změně softwaru použít jako LSR (ATM-LS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zavádí se speciální MPLS hlav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načky zakódovány do polí VPI/VCI, kam tento přepínač přistup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 druhy kódová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C kódování – celé pole VPI/VCI pro značku na vrcholu zásobní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kódování – do VPI první značka a do VCI druh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multipoint kódování – jako SVP + do zbytku VCI identifikace vstupního uzlu sí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2682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ěrovací metody MPLS jsou podobné některým starším metodám směrovacích algoritmů, jako jsou např. ATM-přepínač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0920" y="4653000"/>
            <a:ext cx="41148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PLS/VP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3689280"/>
            <a:ext cx="82296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to dnes asi nejpoužívanější aplikace MPLS techn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měrovač PE má uvnitř virtuální směrovač pro každého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ištění bezpečného oddělení všech zákaz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ní zákazníkům používat libovoln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á síť poskytovatele je pro zákazníka ukry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ez velkých paměťových nároků na zařízení poskytov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5975280" cy="1954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1280" y="321300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PLS VPN páte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Zhodnoce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ejší a jednodušší směrovač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zařazování do FEC je k dispozici více informací o pake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ňuje využití nových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šší bezpečnost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íť MPLS může směrovat pakety různých protoko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2349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013360"/>
            <a:ext cx="822960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řazování do třídy FEC může být složité a časově nároč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tný upgrade hardwaru nebo softwaru všech přepínačů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465300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119700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ce standardů MPLS umožňuje lepší řízení komunikace v IP sítích, snižuje provozní náklady a umožňuje nové služby, jako jsou např. optické VPN nebo přidělování šířky pásma podle potře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6:43:17Z</dcterms:created>
  <dc:creator>petr</dc:creator>
  <dc:description/>
  <dc:language>en-US</dc:language>
  <cp:lastModifiedBy>Vít Wasserbauer</cp:lastModifiedBy>
  <dcterms:modified xsi:type="dcterms:W3CDTF">2006-05-22T15:56:06Z</dcterms:modified>
  <cp:revision>183</cp:revision>
  <dc:subject/>
  <dc:title>X32 ZMK – Semestrální projekt </dc:title>
</cp:coreProperties>
</file>