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34E98-1B85-4A4D-865B-1CE985E5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805CE-96EE-42F7-8DF8-555E41F0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A165-20F2-4F8C-91B0-B528AC88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253B5-C6F6-4514-A0CE-41BDF57F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9972-4B5F-49E0-BB7A-616ADCB0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2BF2-F0A6-4C31-ABA9-83C6A34F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CE05-1B1A-4518-AB58-E0E7DF9A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0F18-4FDA-4CAD-98C2-1AA63395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E4C7-2F3F-4A8D-9308-AA239831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6632-DEE2-41E7-A0EA-754F6220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E6F4-053E-4DBC-8B56-85FC02E6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F049D-4109-4061-9F5E-89F9E802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5EFF-171E-4D1F-9DD1-F90C88A0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570A-86C5-4FAC-BA53-69E46456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DE60-A91F-43D4-AEF0-400969EF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2D7A-303D-4293-A2E3-AFAE7DF8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DC8D-F44A-4102-9C2E-77E3DCB8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B037F-9A9D-4F02-A445-E6506930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FB7B6-448F-4536-9F57-23A47FCB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12EB-0FE8-4EF3-AC48-896F15D6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BFEB4-5A75-4526-9E76-4702CD53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DD7F8-566C-472B-AA0D-A5D153F1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6BC08-78BF-468B-8F7F-BE23290E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35E95-B63A-4A0F-9825-521400F7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339C-E20B-47C2-B1D4-6B8340E9E8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3464-371B-42BE-A5B3-F5713FB205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mtel.cz/cz/?s=vyuka&amp;l=pred_detail&amp;kod=106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6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Multiplexní metod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2205000"/>
            <a:ext cx="4895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Arial"/>
              </a:rPr>
              <a:t>X32TSS - Telekomunikační systémy a sít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eminární projek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Vypracovali: Zuzana Kút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Petr Vota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6.semestr 2005/20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posunutých vlnových dél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nosové médium- optick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WDM (Density WDM)- rozestupy mezi kanály jedno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WDM (Coarse WDM)- rozestupy mezi signály desí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alizace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epší využití přenosových cest pracujeme s digitalizovaným a sdruženým signálem. Hovoříme o TDM+WD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771D1-E13A-47F0-8676-73007EC0B7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ilovače sign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zaříz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ost převodu optického signálu na elektrický, oprava časování a tvar, převod zpět na optický sig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FA (Erbium Doped Fiber Amplifier)- zesilovač na optické bázi (stimulovaná emi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zesílení světelného to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: při 32 kanálovém provozu potřebujeme pouze 9 EDFA zesilovačů (1000 Km) oproti 288 elekronickým zesilovač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C9ED2-594C-4B62-826E-E062C2096E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nost       optická vedení     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přenosová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hlivost a kvalita přen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27280" y="2060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206064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29F21-AA2E-4C50-95A2-41B88B7C03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oboda, J., a spol. : Telekomunikační technika II. díl, Přenos dat, spojovací a přenosové systémy, Odborné nakladatelství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t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Beneš, Praha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tel :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mtel.cz/cz/?s=vyuka&amp;l=pred_detail&amp;kod=10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4D60-1731-4486-87B3-38A48A8C33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DM- Wav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AD708-48A7-4947-94C0-1E17836B63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telekomunikačních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zvyšování kapacity přenosových kaná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ožnosti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měna starých kabelů za nové s více žilami → neekonom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x = lepší využití stávajících přenosových c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multiplex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odov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ekvenční (F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(T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ódový (C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nový (W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F7D54-9873-4F37-9621-7C91230385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frekvenčně posunutých hovorových pásem (AM modul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ířka hovorového pásma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 = 31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dstupy pásem 900 Hz → šířka přenášeného pásma 4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bsazení frekvenčního pá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nalogie s radiovým sign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užití stíněných vodičů → na všech mohou být stejné frek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spořádání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stej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růz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- drátov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48584-CF7C-414A-96E6-9F4429D5B8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1760" y="1341360"/>
            <a:ext cx="482148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B5B3A-3D7D-4E52-A187-339CF72170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5905440" cy="2360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2205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36572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429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4437000"/>
            <a:ext cx="115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5472000" cy="47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7D854-67A2-449F-992A-952E8585DD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é dělení kaná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každý signál má přidělen určitý časový úse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Úseku přiřadíme jeho okamžitou hodnotu v určitém čase (vzork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zorkovací frek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usí splňovat Shannon- Kotělnikovův teor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≥ 2*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 telefonní signál je 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= 8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CM 1.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praxi se TDM kombinuje s digitalizací signálu, tomu odpovídá PCM 1.řá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4132-D33C-4A96-BB19-482B45A339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413000"/>
          <a:ext cx="22032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22032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4038480" cy="2810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4797360"/>
            <a:ext cx="1944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nchro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288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288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288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288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6396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396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396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396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33040" y="1989000"/>
            <a:ext cx="1717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7960" y="1989000"/>
            <a:ext cx="1552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21E7B-BBF1-4EE2-8CD1-95C8D68537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přenosy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zakódovány" do jediného sp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ého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os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účastník si z tohoto celk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kód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co mu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sluší, pomocí kód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z přenášených signálů používá jiný kód (pseudonásobnou sekvenc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 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ysoká efektivnost vy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í dostupného frekvenčního pásma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3D79D-129C-467B-B60A-C3C46900EE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7:44:08Z</dcterms:created>
  <dc:creator>petr</dc:creator>
  <dc:description/>
  <dc:language>en-US</dc:language>
  <cp:lastModifiedBy>student</cp:lastModifiedBy>
  <dcterms:modified xsi:type="dcterms:W3CDTF">2006-05-23T11:52:58Z</dcterms:modified>
  <cp:revision>34</cp:revision>
  <dc:subject/>
  <dc:title>Multiplexní metody</dc:title>
</cp:coreProperties>
</file>